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FD4-0808-40AF-A768-0763EF01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D40-7061-4C30-B487-8D49B37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294-71AF-43A2-99BA-D2A368B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2F1-A9A2-4A0E-A567-0D39DC27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D180-97C5-4A7C-AD08-BB368A0D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6AF-AFD5-45C0-9275-22055CE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6DD8-49CB-4E48-9EC9-654027C1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34E0-DB76-4903-AB47-55EDECE7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A63F-A3F4-4D69-9CEA-D70225E4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7734-A717-4ECB-9861-DEF3B34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C502-AF59-4E8D-9794-EBF8BAE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0F4-F2E3-4F99-921D-485D54B3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28F8-0EAD-46D8-8FE8-C19464F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8BF7-5F9B-408E-A96D-77399A4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033-64E7-45CB-942B-DDEC9F2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4166-457C-44BA-A9BC-BE5F1E5F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5A9F-E332-4B1D-910B-2B75D781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833D2-036A-4CC9-96AF-0610F76C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C8831-2002-49DF-B7BB-FD5F8F8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FEFC4-2C96-4695-8B86-A76F0232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AADA3-ACDA-4441-9306-1E5152FC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067DB-A996-4F53-840A-3142D06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8D0-E28F-428B-8F40-8D58EB54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23302-9F8B-4F22-A3BB-2CB8F1C7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27D46-E4FD-4F66-8DBB-5170924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43EBF-8655-4680-97B6-B2A9544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4AABD-3AC9-4AED-B107-32505B6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46CC4-ECEA-4E84-9C2F-D6008BA6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406CF-EBB7-43D7-9303-F0FF77F0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B257D-BC34-4199-8C08-373A89BE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8FF5B-101B-49D6-B480-5C41279C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9A49-0F84-440D-B289-1A320B0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445E-CD79-46A7-9602-2A70B87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0E5-D2DC-459B-8B65-ABC867D3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E6C7-E281-41AD-97D5-7A6A765B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0413-2458-459F-8760-937461A3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FB57-C8CB-4218-A7DF-03BE7F2E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BF40-ADAF-4295-9204-CBB15D2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5B67-8F56-468A-92E8-8DF26227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496A-4B0E-47DA-B156-937AAE1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2E53-9309-4436-98DB-D969AD4D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08F4-B5FC-4D28-813D-DADC5986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AD64-EACD-493A-97B1-E6646D2E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D0EE2-20E0-4B07-9BE0-BFB1B86B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653-05BB-47D4-857B-BE5890B2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BFD1C-275D-47F4-9ADE-E856BA7D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AD6D2-21F1-4B24-9B4A-087E4B11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A499B-919F-4B8A-9A08-B153E7A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4008D-71D4-4390-9BAC-DD8FF230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B5712-727E-4D09-85E2-78B7479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2BAF7-63CA-4976-96CE-CDB234C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B3818-AEED-4FB2-A504-AD038D3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BC140-AD56-4FA5-9179-7B8967F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B7B95-0DBF-4B30-8A16-C4B0382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6CF4B-0754-47AB-8066-9363817D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445-7F39-41BF-B54A-87F2877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CCFF9-1E79-490F-95D0-E3C6BA10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EA143-3961-408F-A65D-1530A535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AC71C-4511-488D-9FD5-DFF6A66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CAF0C-4EC4-49D4-BC7A-C2E5D007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FC265-223D-4FBC-813D-1F5A82F1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5DD69-AC14-41A1-9FC9-39A0108D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D0CF1-DDF6-4EA2-86D7-2230DFC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4BB14-9A45-4F9F-AD1C-FAE5AC1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5D475-3BD9-492A-B3B5-8E1EBC8C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0BB6E-D7DE-4A1B-B37A-A2C1559C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BD9-11FD-485B-AC73-8960593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B436A-3035-454F-B56C-F95B4BD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BE1D7-CAE6-4ADA-BDAB-8D4D6CF1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168AF-594C-4E16-ACBF-2502FD8B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5779C-1164-49C1-B8D2-4F5D9AF7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5E2D2-3E96-4CB6-A482-BCBC7A3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10897-EE93-4B01-B2D7-04F2E305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85739-0927-457F-9707-8B2DB11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48B57-EF4A-46B3-A0FD-BD8821A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85646-01D9-4175-98D2-0268B033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4082B2-50F4-44AB-B1A0-3B11153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FAB-4D95-47A4-9728-B9724DD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B5281-F588-48A9-BE69-04770D4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8C253-0488-4742-A82E-981AB99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EA258-2227-4196-AAD6-1B552BBA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61633-38CF-4C8D-8C3F-CEF2EED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85A7A-BEDC-489F-B9D2-218BBF93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062-A393-4464-81C6-5691063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7BB2B-ED4D-4798-A60E-915143736EAA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AFD24-1188-47DE-8441-3616B20549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7DA19-EECA-4BDB-9B9C-A13C86088FCD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B6421-AEB7-47E9-ACBF-FA0977C889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37B63-B1C4-4A8F-9C73-93763FDFC051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6694E-6FD4-40B1-AC60-EFE4FA0B90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17922-8F85-4BC1-80E6-ED380BD23A1B}" type="datetime">
              <a:rPr b="0" lang="en-US" sz="1200" spc="-1" strike="noStrike">
                <a:solidFill>
                  <a:srgbClr val="f4e7e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70FEB-1107-4F4F-BCAD-8251B63494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7D596-232A-4003-BAD2-48F7819449AD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0ACDD-6A6F-44D7-BC86-59DE662804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A4299-C7F4-42F8-875C-2FC9A92FAA09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11F0D-5F5E-45D5-87FC-1CBDB135E4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54BBA-9A9A-4EAB-A6C5-04CB5C70155A}" type="datetime"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281D7-5ECB-4FFE-BEC2-4F17D153B5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aldwick.k12.nj.us/waldwick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5064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6</a:t>
            </a:r>
            <a:r>
              <a:rPr b="1" lang="en-US" sz="4300" spc="-1" strike="noStrike" baseline="30000">
                <a:solidFill>
                  <a:srgbClr val="b13f9a"/>
                </a:solidFill>
                <a:latin typeface="Century Schoolbook"/>
              </a:rPr>
              <a:t>TH</a:t>
            </a: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 GRADE </a:t>
            </a:r>
            <a:br>
              <a:rPr sz="4300"/>
            </a:b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SCIENCE FAIR:</a:t>
            </a: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b13f9a"/>
                </a:solidFill>
                <a:latin typeface="Century Schoolbook"/>
              </a:rPr>
              <a:t>RESEARCHING WITH </a:t>
            </a:r>
            <a:br>
              <a:rPr sz="4300"/>
            </a:br>
            <a:r>
              <a:rPr b="1" lang="en-US" sz="4300" spc="-1" strike="noStrike" u="sng">
                <a:solidFill>
                  <a:srgbClr val="b13f9a"/>
                </a:solidFill>
                <a:uFillTx/>
                <a:latin typeface="Century Schoolbook"/>
              </a:rPr>
              <a:t>ONLINE DATABASES</a:t>
            </a:r>
            <a:endParaRPr b="0" lang="en-US" sz="4300" spc="-1" strike="noStrike">
              <a:solidFill>
                <a:srgbClr val="b13f9a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ONLINE DATABASE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nline resources that contai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cyclopedia 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agazine 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ws Artic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n-Fiction Book Chap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V &amp; Radio Transcrip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 Mo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WALDWICK SCHOOL LIBRARY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cts On F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ale Virtual Reference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BSCO Ho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are accessible at th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entury Schoolbook"/>
                <a:hlinkClick r:id="rId1"/>
              </a:rPr>
              <a:t>Waldwick Media Center webpag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 support KEYWORD SEARCHING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REQUIRES SIGNING-IN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Username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:  waldwick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Password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:  warrior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PLAN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a good articl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py down the citation information of  the articl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reate a citation in MLA forma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b83d68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e no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0:04:22Z</dcterms:created>
  <dc:creator>Paul Hummel</dc:creator>
  <dc:description/>
  <dc:language>en-US</dc:language>
  <cp:lastModifiedBy>Paul Hummel</cp:lastModifiedBy>
  <dcterms:modified xsi:type="dcterms:W3CDTF">2012-02-02T23:35:53Z</dcterms:modified>
  <cp:revision>5</cp:revision>
  <dc:subject/>
  <dc:title>6TH Grade  Science Fair:  Researching with  Online databases</dc:title>
</cp:coreProperties>
</file>